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571C-48F2-4DE1-9B93-8A943B020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6700-815D-49B7-9843-8D83BA2EE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DC07-1A2E-40D7-9BE8-EB95A41A3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2A41-562C-4BF1-A00D-2843B3E27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50CB-9CD8-416C-9C04-7FA45C9B4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1B11-1AE8-413E-9672-79C144781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69AA-7FDF-4883-8984-4D1B80E67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E887-A343-4C3E-8BC1-BD266A589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70E8-D4AA-40B1-ADE3-02C312610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F6DC-8236-47CA-8EDB-950243CCF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A490-B80A-477D-897D-B0E3756E7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E4BA-77AF-484D-BBAD-D58D28638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A618D-C5F5-468F-AB10-35CFE72D030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esfcr.cz/file/8258/" TargetMode="External"/><Relationship Id="rId2" Type="http://schemas.openxmlformats.org/officeDocument/2006/relationships/hyperlink" Target="https://forum.esfcr.cz/node/discussion.htm?ident=114&amp;1285767538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403280" y="2276640"/>
            <a:ext cx="7048440" cy="15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00000"/>
                </a:solidFill>
                <a:latin typeface="Arial"/>
              </a:rPr>
              <a:t>Jak správně n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c00000"/>
                </a:solidFill>
                <a:latin typeface="Arial"/>
              </a:rPr>
              <a:t>monitorovací indikátory</a:t>
            </a:r>
            <a:br>
              <a:rPr sz="28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90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d2d8a"/>
                </a:solidFill>
                <a:latin typeface="Arial"/>
              </a:rPr>
              <a:t>07.57.00</a:t>
            </a: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 </a:t>
            </a:r>
            <a:br>
              <a:rPr sz="3600"/>
            </a:b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Počet nových/inovovaných produkt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395280" y="1484280"/>
            <a:ext cx="8497800" cy="49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c00000"/>
                </a:solidFill>
                <a:latin typeface="Arial"/>
              </a:rPr>
              <a:t>Nový produkt = </a:t>
            </a: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formy a nástroje, kterými je poskytována podpora cílovým skupinám</a:t>
            </a: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Např. vzdělávací program, kurz, metodika, osnovy, školní vzdělávací program, e-learningový produkt, webový portál, rekvalifikační modul, integrační postupy, vzdělávací pomůcka apo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Produkt musí být </a:t>
            </a: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samostatně použitelný pro poskytování podpory cílovým skupinám</a:t>
            </a: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. Soubor několika předmětů či materiálů, které musí být použity společně, tak představuje jediný produk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(Např. pokud je metodika pro lektora nepoužitelná bez osnovy kurzu a příslušné učebnice, nelze za produkt považovat metodiku, nýbrž kurz jako celek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d2d8a"/>
                </a:solidFill>
                <a:latin typeface="Arial"/>
              </a:rPr>
              <a:t>07.57.00 </a:t>
            </a:r>
            <a:br>
              <a:rPr sz="3600"/>
            </a:b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Počet nových/inovovaných produkt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368280" y="1844640"/>
            <a:ext cx="8496360" cy="44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Započítává se počet </a:t>
            </a: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různých</a:t>
            </a: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 produktů, nikoliv počet kusů, kopií či shodných opakování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Započítávají se </a:t>
            </a: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pouze produkty vzniklé v rámci hlavních klíčových aktivit projektu</a:t>
            </a: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nikoliv např. propagační předměty!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c00000"/>
                </a:solidFill>
                <a:latin typeface="Arial"/>
              </a:rPr>
              <a:t>Inovovaný produkt = </a:t>
            </a: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znamená takový produkt, kde </a:t>
            </a: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změny v jeho cílech, obsahu, metodách nebo formách významně zvýšily jeho kvalitu a účinnost při poskytování podpory cílovým skupinám</a:t>
            </a: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Vytvoření nového/inovovaného produktu nutně znamená, že při tvorbě produktu vzniká nějaké nové duševní vlastnictví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d2d8a"/>
                </a:solidFill>
                <a:latin typeface="Arial"/>
              </a:rPr>
              <a:t>07.46.13 </a:t>
            </a:r>
            <a:r>
              <a:rPr b="1" lang="cs-CZ" sz="2800" spc="-1" strike="noStrike">
                <a:solidFill>
                  <a:srgbClr val="c00000"/>
                </a:solidFill>
                <a:latin typeface="Arial"/>
              </a:rPr>
              <a:t>Počet úspěšných absolventů kurzů celkem/</a:t>
            </a:r>
            <a:br>
              <a:rPr sz="2800"/>
            </a:br>
            <a:r>
              <a:rPr b="1" lang="cs-CZ" sz="2800" spc="-1" strike="noStrike">
                <a:solidFill>
                  <a:srgbClr val="143f7e"/>
                </a:solidFill>
                <a:latin typeface="Arial"/>
              </a:rPr>
              <a:t> 48.19.00</a:t>
            </a:r>
            <a:r>
              <a:rPr b="1" lang="cs-CZ" sz="2800" spc="-1" strike="noStrike">
                <a:solidFill>
                  <a:srgbClr val="c00000"/>
                </a:solidFill>
                <a:latin typeface="Arial"/>
              </a:rPr>
              <a:t> Počet proškolených os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395280" y="2066760"/>
            <a:ext cx="8497800" cy="34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Jedná se o </a:t>
            </a: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osoby, které ukončily kurz/zúčastnily se vzdělávacích aktivit v rámci podpořených projektů a ukončily způsobem stanoveným poskytovatelem kurzu</a:t>
            </a: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 (např. získaly certifikát, osvědčení, úspěšně absolvovaly závěrečný test)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Konkrétní účastník (úspěšný absolvent kurzu) je započten tolikrát, kolik kurzů úspěšně dokončil předepsaným způsob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Opět musí být </a:t>
            </a:r>
            <a:r>
              <a:rPr b="0" lang="cs-CZ" sz="2200" spc="-1" strike="noStrike" u="sng">
                <a:solidFill>
                  <a:srgbClr val="14407e"/>
                </a:solidFill>
                <a:uFillTx/>
                <a:latin typeface="Arial"/>
              </a:rPr>
              <a:t>průkazné</a:t>
            </a: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, že konkrétní osoba splnila podmínky úspěšného absolvování kurz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07.02.00 (07.02.02)</a:t>
            </a:r>
            <a:br>
              <a:rPr sz="2400"/>
            </a:b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Počet nově vytvořených pracovních míst </a:t>
            </a:r>
            <a:br>
              <a:rPr sz="2400"/>
            </a:b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pro znevýhodněné skupiny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– celkem (žen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bdélník 1"/>
          <p:cNvSpPr/>
          <p:nvPr/>
        </p:nvSpPr>
        <p:spPr>
          <a:xfrm>
            <a:off x="539640" y="1628640"/>
            <a:ext cx="7993080" cy="43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601"/>
              </a:spcAft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14407e"/>
                </a:solidFill>
                <a:latin typeface="Arial"/>
              </a:rPr>
              <a:t>pro </a:t>
            </a:r>
            <a:r>
              <a:rPr b="1" lang="cs-CZ" sz="2100" spc="-1" strike="noStrike">
                <a:solidFill>
                  <a:srgbClr val="14407e"/>
                </a:solidFill>
                <a:latin typeface="Arial"/>
              </a:rPr>
              <a:t>znevýhodněné skupiny</a:t>
            </a:r>
            <a:r>
              <a:rPr b="0" lang="cs-CZ" sz="2100" spc="-1" strike="noStrike">
                <a:solidFill>
                  <a:srgbClr val="14407e"/>
                </a:solidFill>
                <a:latin typeface="Arial"/>
              </a:rPr>
              <a:t>... na pracovní místo musí nastoupit </a:t>
            </a:r>
            <a:r>
              <a:rPr b="0" lang="cs-CZ" sz="2100" spc="-1" strike="noStrike" u="sng">
                <a:solidFill>
                  <a:srgbClr val="14407e"/>
                </a:solidFill>
                <a:uFillTx/>
                <a:latin typeface="Arial"/>
              </a:rPr>
              <a:t>osoba ze znevýhodněné skupiny, která je v projektu chápána jako cílová skupin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14407e"/>
                </a:solidFill>
                <a:latin typeface="Arial"/>
              </a:rPr>
              <a:t>za místo vytvořené pro</a:t>
            </a:r>
            <a:r>
              <a:rPr b="1" lang="cs-CZ" sz="2100" spc="-1" strike="noStrike">
                <a:solidFill>
                  <a:srgbClr val="14407e"/>
                </a:solidFill>
                <a:latin typeface="Arial"/>
              </a:rPr>
              <a:t> ženy </a:t>
            </a:r>
            <a:r>
              <a:rPr b="0" lang="cs-CZ" sz="2100" spc="-1" strike="noStrike">
                <a:solidFill>
                  <a:srgbClr val="14407e"/>
                </a:solidFill>
                <a:latin typeface="Arial"/>
              </a:rPr>
              <a:t>se považuje takové pracovní místo, na které </a:t>
            </a:r>
            <a:r>
              <a:rPr b="0" lang="cs-CZ" sz="2100" spc="-1" strike="noStrike" u="sng">
                <a:solidFill>
                  <a:srgbClr val="14407e"/>
                </a:solidFill>
                <a:uFillTx/>
                <a:latin typeface="Arial"/>
              </a:rPr>
              <a:t>jako první zaměstnankyně nastoupila žena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14407e"/>
                </a:solidFill>
                <a:latin typeface="Arial"/>
              </a:rPr>
              <a:t>Za vytvořená pracovní místa se nepovažují místa, která vzniknou v rámci realizačního týmu projektu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14407e"/>
                </a:solidFill>
                <a:latin typeface="Arial"/>
              </a:rPr>
              <a:t>Nostitelem nově vytvořených pracovních míst může být příjemce podpory, jeho projektový partner nebo jiný zaměstnavatel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07.02.00 (07.02.02)</a:t>
            </a:r>
            <a:br>
              <a:rPr sz="2400"/>
            </a:b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Počet nově vytvořených pracovních míst </a:t>
            </a:r>
            <a:br>
              <a:rPr sz="2400"/>
            </a:b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pro znevýhodněné skupiny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– celkem (žen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07640" y="1628280"/>
            <a:ext cx="8785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Počet nově vytvořených pracovních míst vykazujete </a:t>
            </a: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přepočtený na „plné úvazky“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Např. vytvoříte-li tři poloviční úvazky, bude hodnota indikátoru 1,5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Vytvořenými pracovními místy jsou místa vytvořená v rámci projektu v souladu se stanovenými pravidl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nové pracovní místo u zaměstnavatele podpořené formou úhrady mzdových nákladů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nové pracovní místo pro sebezaměstnání (OSVČ) podpořené prostřednictvím vzdělávání a podpůrných služeb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Nové pracovní místo u zaměstnavatele vytvořené v souvislosti s projektem, za předpokladu, že toto místo není financováno z jiných veřejných zdrojů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78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07.02.00 (07.02.02)</a:t>
            </a:r>
            <a:br>
              <a:rPr sz="2400"/>
            </a:b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Počet nově vytvořených pracovních míst </a:t>
            </a:r>
            <a:br>
              <a:rPr sz="2400"/>
            </a:b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pro znevýhodněné skupiny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– celkem (žen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360" y="1628640"/>
            <a:ext cx="857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Počet vytvořených pracovních míst musí představovat </a:t>
            </a: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čisté přírůstky pracovních míst v organizaci</a:t>
            </a: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 oproti průměru za posledních 12 měsíců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Tj. </a:t>
            </a:r>
            <a:r>
              <a:rPr b="1" i="1" lang="cs-CZ" sz="2200" spc="-1" strike="noStrike">
                <a:solidFill>
                  <a:srgbClr val="000000"/>
                </a:solidFill>
                <a:latin typeface="Arial"/>
              </a:rPr>
              <a:t>přirozenou fluktuaci </a:t>
            </a:r>
            <a:r>
              <a:rPr b="0" i="1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nemohu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 vykázat jako vytvořená míst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Požadavek podle předchozí věty </a:t>
            </a:r>
            <a:r>
              <a:rPr b="0" i="1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nemusí být splněn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v případě poskytování mzdových příspěvků </a:t>
            </a:r>
            <a:r>
              <a:rPr b="0" i="1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znevýhodněným nebo zdravotně postiženým zaměstnancům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 v případě, kdy k čistému nárůstu nedojde výhradně kvůli tomu, že dotyčné pracovní místo muselo být uprázdněno z důvodu dobrovolného odchodu, tělesného postižení, odchodu do důchodu z důvodu věku, dobrovolného zkrácení pracovní doby nebo dovoleného propuštění pro porušení pracovních povinností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43f7e"/>
                </a:solidFill>
                <a:latin typeface="Arial"/>
              </a:rPr>
              <a:t>43.05.00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Počet vytvořených partnerstv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407e"/>
                </a:solidFill>
                <a:latin typeface="Arial"/>
              </a:rPr>
              <a:t>binární indikátor „hloubky“ partnerství ( sleduje vytvořená místní partnerství, tématické sítě, mezinárodní partnerstv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407e"/>
                </a:solidFill>
                <a:latin typeface="Arial"/>
              </a:rPr>
              <a:t>dosažená hodnota může být </a:t>
            </a: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pouze 0 neb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1 – v rámci projektu byl na základě </a:t>
            </a:r>
            <a:r>
              <a:rPr b="1" lang="cs-CZ" sz="2400" spc="-1" strike="noStrike" u="sng">
                <a:solidFill>
                  <a:srgbClr val="14407e"/>
                </a:solidFill>
                <a:uFillTx/>
                <a:latin typeface="Arial"/>
              </a:rPr>
              <a:t>mezinárodní spolupráce </a:t>
            </a: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vytvořen</a:t>
            </a:r>
            <a:r>
              <a:rPr b="0" lang="cs-CZ" sz="2400" spc="-1" strike="noStrike">
                <a:solidFill>
                  <a:srgbClr val="14407e"/>
                </a:solidFill>
                <a:latin typeface="Arial"/>
              </a:rPr>
              <a:t> </a:t>
            </a:r>
            <a:r>
              <a:rPr b="1" lang="cs-CZ" sz="2400" spc="-1" strike="noStrike" u="sng">
                <a:solidFill>
                  <a:srgbClr val="14407e"/>
                </a:solidFill>
                <a:uFillTx/>
                <a:latin typeface="Arial"/>
              </a:rPr>
              <a:t>společný produ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0 – ve všech ostatních případ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Co když nedosáhnu cílové hodnot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395280" y="1658880"/>
            <a:ext cx="82296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Pak hrozí sankce (povinnost vrátit část dotace) ve výši závislé na míře nenaplnění cílové hodno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Konkrétní způsob vyčíslení sankce je v Metodice monitorovacích indikátorů (kapitola 4), obecně plat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- sankce za nenaplnění indikátorů </a:t>
            </a:r>
            <a:r>
              <a:rPr b="0" i="1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výstupů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 vzhledem k údajům uvedeným v Žádosti je udělována, pokud je indikátor naplněn na méně než 85%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- sankce za nenaplnění indikátorů </a:t>
            </a:r>
            <a:r>
              <a:rPr b="0" i="1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výsledků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 vzhledem k údajům uvedeným v Žádosti je udělována, pokud je indikátor naplněn na méně než 75%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Co když překročím cílovou hodnotu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24000" y="1413000"/>
            <a:ext cx="851688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Při překročení plánované hodnoty indikátorů je při výpočtu dosažených hodnot ukazatelů navýšení u jednotlivých indikátorů započítáno </a:t>
            </a:r>
            <a:r>
              <a:rPr b="1" lang="cs-CZ" sz="2200" spc="-1" strike="noStrike">
                <a:solidFill>
                  <a:srgbClr val="143f7e"/>
                </a:solidFill>
                <a:latin typeface="Arial"/>
              </a:rPr>
              <a:t>maximálně ve výši 120%</a:t>
            </a: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 původně plánované hodno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Tj. </a:t>
            </a:r>
            <a:r>
              <a:rPr b="1" i="1" lang="cs-CZ" sz="2200" spc="-1" strike="noStrike">
                <a:solidFill>
                  <a:srgbClr val="000000"/>
                </a:solidFill>
                <a:latin typeface="Arial"/>
              </a:rPr>
              <a:t>Několikanásobné překročení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cílových hodnot není výhodou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250920" y="3645000"/>
          <a:ext cx="8569080" cy="224784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22492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Příklad z metodiky D8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případě, že projekt předpokládá splnění tří indikátorů výstupů, kdy bude dosažená hodnota prvního </a:t>
                      </a:r>
                      <a:r>
                        <a:rPr b="1" i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5 </a:t>
                      </a:r>
                      <a:r>
                        <a:rPr b="0" i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, druhého </a:t>
                      </a:r>
                      <a:r>
                        <a:rPr b="1" i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i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% a třetího </a:t>
                      </a:r>
                      <a:r>
                        <a:rPr b="1" i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 </a:t>
                      </a:r>
                      <a:r>
                        <a:rPr b="0" i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původního plánu, vypočítá se průměr z těchto hodnot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 %, 10 %, 35 %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ůměr dosažených hodnot indikátorů činí 55 %, čemuž odpovídá sankce ve výši 18 - 22 % z hodnoty dotac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Detailní členění hlavních indikátor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755640" y="1197000"/>
            <a:ext cx="7437600" cy="49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143f7e"/>
                </a:solidFill>
                <a:latin typeface="Arial"/>
              </a:rPr>
              <a:t>Je-li u daného indikátoru stanoveno jeho detailní členění, </a:t>
            </a:r>
            <a:r>
              <a:rPr b="0" i="1" lang="cs-CZ" sz="2200" spc="-1" strike="noStrike" u="sng">
                <a:solidFill>
                  <a:srgbClr val="143f7e"/>
                </a:solidFill>
                <a:uFillTx/>
                <a:latin typeface="Arial"/>
              </a:rPr>
              <a:t>musí příjemce indikátor </a:t>
            </a:r>
            <a:r>
              <a:rPr b="1" i="1" lang="cs-CZ" sz="2200" spc="-1" strike="noStrike" u="sng">
                <a:solidFill>
                  <a:srgbClr val="143f7e"/>
                </a:solidFill>
                <a:uFillTx/>
                <a:latin typeface="Arial"/>
              </a:rPr>
              <a:t>sledovat a vykazovat </a:t>
            </a:r>
            <a:r>
              <a:rPr b="0" i="1" lang="cs-CZ" sz="2200" spc="-1" strike="noStrike" u="sng">
                <a:solidFill>
                  <a:srgbClr val="143f7e"/>
                </a:solidFill>
                <a:uFillTx/>
                <a:latin typeface="Arial"/>
              </a:rPr>
              <a:t>i v tomto </a:t>
            </a:r>
            <a:r>
              <a:rPr b="1" i="1" lang="cs-CZ" sz="2200" spc="-1" strike="noStrike" u="sng">
                <a:solidFill>
                  <a:srgbClr val="143f7e"/>
                </a:solidFill>
                <a:uFillTx/>
                <a:latin typeface="Arial"/>
              </a:rPr>
              <a:t>detailním členění</a:t>
            </a:r>
            <a:r>
              <a:rPr b="1" i="1" lang="cs-CZ" sz="22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i="1" lang="cs-CZ" sz="2200" spc="-1" strike="noStrike">
                <a:solidFill>
                  <a:srgbClr val="143f7e"/>
                </a:solidFill>
                <a:latin typeface="Arial"/>
              </a:rPr>
              <a:t>(např. podle pohlaví, podle postavení na trhu práce apod.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143f7e"/>
                </a:solidFill>
                <a:latin typeface="Arial"/>
              </a:rPr>
              <a:t>U těchto indikátorů není stanovená cílová hodnota a nehrozí zde žádná sank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143f7e"/>
                </a:solidFill>
                <a:latin typeface="Arial"/>
              </a:rPr>
              <a:t>detailní členění je </a:t>
            </a:r>
            <a:r>
              <a:rPr b="0" i="1" lang="cs-CZ" sz="2200" spc="-1" strike="noStrike" u="sng">
                <a:solidFill>
                  <a:srgbClr val="143f7e"/>
                </a:solidFill>
                <a:uFillTx/>
                <a:latin typeface="Arial"/>
              </a:rPr>
              <a:t>pouze indikativní</a:t>
            </a:r>
            <a:r>
              <a:rPr b="0" i="1" lang="cs-CZ" sz="2200" spc="-1" strike="noStrike">
                <a:solidFill>
                  <a:srgbClr val="143f7e"/>
                </a:solidFill>
                <a:latin typeface="Arial"/>
              </a:rPr>
              <a:t> a je vykazováno na základě získaných údajů ve své evidenci (presenční listiny atd.) nebo, tam, kde evidence není možná, účelná nebo kde by přinesla neúměrně vysoké náklady, na základě vlastního kvalifikovaného odhadu.“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143f7e"/>
                </a:solidFill>
                <a:latin typeface="Arial"/>
              </a:rPr>
              <a:t>Potřebné pro vyhodnocení účinků OP LZZ, reportování vládě, Evropské komis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Monitorovací indiká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395280" y="1125360"/>
            <a:ext cx="8642520" cy="59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Sledují sociodemografické údaje o cílové skupin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Monitorovací indikátory definovány v metodice D8 - Metodika monitorovacích indikátor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Závazné indikátory a jejich cílové hodnoty (které jste si stanovili v žádosti o poskytnutí podpory) jsou součástí Rozhodnutí o poskytnutí dot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Naplňování závazných indikátorů je sledováno a vykazováno v monitorovacích zprávách projektu a hodnoty těchto závazných indikátorů musí být </a:t>
            </a:r>
            <a:r>
              <a:rPr b="1" lang="cs-CZ" sz="2000" spc="-1" strike="noStrike">
                <a:solidFill>
                  <a:srgbClr val="ff0000"/>
                </a:solidFill>
                <a:latin typeface="Arial"/>
              </a:rPr>
              <a:t>prokazatelné a ověřitelné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řípadnou kontrol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„</a:t>
            </a:r>
            <a:r>
              <a:rPr b="0" i="1" lang="cs-CZ" sz="2000" spc="-1" strike="noStrike">
                <a:solidFill>
                  <a:srgbClr val="14407e"/>
                </a:solidFill>
                <a:latin typeface="Arial"/>
              </a:rPr>
              <a:t>Dosažení cílových hodnot je nutnou (avšak </a:t>
            </a:r>
            <a:r>
              <a:rPr b="0" i="1" lang="cs-CZ" sz="2000" spc="-1" strike="noStrike" u="sng">
                <a:solidFill>
                  <a:srgbClr val="14407e"/>
                </a:solidFill>
                <a:uFillTx/>
                <a:latin typeface="Arial"/>
              </a:rPr>
              <a:t>nikoliv postačující</a:t>
            </a:r>
            <a:r>
              <a:rPr b="0" i="1" lang="cs-CZ" sz="2000" spc="-1" strike="noStrike">
                <a:solidFill>
                  <a:srgbClr val="14407e"/>
                </a:solidFill>
                <a:latin typeface="Arial"/>
              </a:rPr>
              <a:t>) podmínkou pro dosažení cílů projektu.</a:t>
            </a: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Detailní členění hlavních indikátor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395280" y="1658880"/>
            <a:ext cx="822960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Dílčí členění se týká indikátorů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čet podpořených osob (velmi složité členěn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čet podpořených organizací (členění podle typu organiz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čet úspěšných absolventů kurzů (členění podle pohlav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čet proškolených osob (členění podle pohlav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Všechny tyto indikátory jsou včetně definic uvedeny v kapitole 6 Metodiky monitorovacích indikátorů (D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ílčí členění indikátoru </a:t>
            </a:r>
            <a:br>
              <a:rPr sz="3200"/>
            </a:b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07.41.00 – Počet podpořených os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468360" y="1658880"/>
            <a:ext cx="7920000" cy="45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Tento indikátor se dále člení po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pohlaví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postavení na trhu práce, (OSVČ, nezaměstnaní…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role (klienti služeb = znevýhodněné skupiny, poskytovatelé služeb = ti, kteří se znevýhodněnými pracují)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věku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typu znevýhodnění (menšiny, zdravotně postižení…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vzdělání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úspěšnosti podpory (úspěšně podpořené osoby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Reportujte vždy o skupinách, které jsou cílovými skupinami Vašeho projektu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ílčí členění indikátoru </a:t>
            </a:r>
            <a:br>
              <a:rPr sz="3200"/>
            </a:b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07.41.00 – Počet podpořených os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395280" y="1658880"/>
            <a:ext cx="8229600" cy="49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V rámci podmnožin základních indikátorů mohou nastat situace, kdy </a:t>
            </a:r>
            <a:r>
              <a:rPr b="1" lang="cs-CZ" sz="2200" spc="-1" strike="noStrike">
                <a:solidFill>
                  <a:srgbClr val="143f7e"/>
                </a:solidFill>
                <a:latin typeface="Arial"/>
              </a:rPr>
              <a:t>jednu skutečnost je nutné uvést v podrobném členění do více indikátorů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Např. dlouhodobě nezaměstnaný zdravotně postižený muž z etnické menšiny ve věku 56 let s dokončenou střední školou je zahrnut v indikátorech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074100 (podpořená osoba)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074101 (muž)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074107 (nezaměstnaný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074106 (dlouhodobě nezaměstnaný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074119 (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starší pracovník 55-64 let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074142 (střední škola – ISCED 3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074125 (menšina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074127 (zdravotně postižený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dikátory – další inform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181080" y="1658880"/>
            <a:ext cx="8783640" cy="48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D8 – Metodika monitorovacích indikátor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sfcr.cz/file/8258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(Cesta: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www.esfcr.cz → „Dokumenty“→ „Příručky“→ „Desatero OP LZZ“→ „D8 Metodika monitorovacích indikátorů“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ESF Forum – Diskusní klub „</a:t>
            </a:r>
            <a:r>
              <a:rPr b="0" lang="en-GB" sz="2800" spc="-1" strike="noStrike">
                <a:solidFill>
                  <a:srgbClr val="14407e"/>
                </a:solidFill>
                <a:latin typeface="Arial"/>
              </a:rPr>
              <a:t>Monitorování a informační systémy; indikátory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s://forum.esfcr.cz/node/discussion.htm?ident=114&amp;1285767538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14407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U oblasti podpory 3.4 jde 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539640" y="1773360"/>
          <a:ext cx="8229600" cy="3809880"/>
        </p:xfrm>
        <a:graphic>
          <a:graphicData uri="http://schemas.openxmlformats.org/drawingml/2006/table">
            <a:tbl>
              <a:tblPr/>
              <a:tblGrid>
                <a:gridCol w="1440000"/>
                <a:gridCol w="2016000"/>
                <a:gridCol w="4773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h indikátor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ód národního číselník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zev indikátor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stup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41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podpořených osob - celke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45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podpořených organizací - celke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57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nových/inovovaných produktů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sledk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46.1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úspěšných absolventů kurzů celke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02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(nově zařazen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85680" indent="-856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nově vytvořených pracovních  míst pro znevýhodněné skupiny - celk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856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02.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56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(nově zařazen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856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nově vytvořených pracovních míst pro znevýhodněné skupiny - že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U oblasti podpory 5.1 jde 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57200" y="1600200"/>
          <a:ext cx="8229600" cy="2685960"/>
        </p:xfrm>
        <a:graphic>
          <a:graphicData uri="http://schemas.openxmlformats.org/drawingml/2006/table">
            <a:tbl>
              <a:tblPr/>
              <a:tblGrid>
                <a:gridCol w="1440000"/>
                <a:gridCol w="2016000"/>
                <a:gridCol w="477360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h indikátor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ód národního číselník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zev indikátor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 rowSpan="4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stup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41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podpořených osob - celke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45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podpořených organizací - celke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57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nových/inovovaných produktů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05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vytvořených partners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sledk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.19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proškolených oso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d2d8a"/>
                </a:solidFill>
                <a:latin typeface="Arial"/>
              </a:rPr>
              <a:t>07.41.00 </a:t>
            </a:r>
            <a:br>
              <a:rPr sz="3600"/>
            </a:b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Počet podpořených osob – celke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395280" y="1658880"/>
            <a:ext cx="822960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Každá osoba je v </a:t>
            </a:r>
            <a:r>
              <a:rPr b="1" lang="cs-CZ" sz="2400" spc="-1" strike="noStrike">
                <a:solidFill>
                  <a:srgbClr val="2d2d8a"/>
                </a:solidFill>
                <a:latin typeface="Arial"/>
              </a:rPr>
              <a:t>rámci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projektu započítávána </a:t>
            </a:r>
            <a:r>
              <a:rPr b="1" lang="cs-CZ" sz="2400" spc="-1" strike="noStrike" u="sng">
                <a:solidFill>
                  <a:srgbClr val="143f7e"/>
                </a:solidFill>
                <a:uFillTx/>
                <a:latin typeface="Arial"/>
              </a:rPr>
              <a:t>pouze jednou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, bez ohledu na to, kolik podpor obdržel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Účastník tří školení a půlroční stáže tedy vydá pouze za jednu podpořenou osobu, stejně jako osoba, která jednou využila konzultačních služe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Podpora je jakákoliv aktivita financovaná z rozpočtu projektu, ze které mají </a:t>
            </a:r>
            <a:r>
              <a:rPr b="1" lang="cs-CZ" sz="2400" spc="-1" strike="noStrike" u="sng">
                <a:solidFill>
                  <a:srgbClr val="143f7e"/>
                </a:solidFill>
                <a:uFillTx/>
                <a:latin typeface="Arial"/>
              </a:rPr>
              <a:t>cílové skupiny prospěch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a to na úrovni např. vzdělávacího nebo rekvalifikačního kurzu, stáže, odborné konzultace, poradenství, školení, prax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d2d8a"/>
                </a:solidFill>
                <a:latin typeface="Arial"/>
              </a:rPr>
              <a:t>07.41.00 </a:t>
            </a:r>
            <a:br>
              <a:rPr sz="3600"/>
            </a:b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Počet podpořených osob – celke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395280" y="1773360"/>
            <a:ext cx="82296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Nutnost identifikace podpořených osob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Za podpořenou osobu proto</a:t>
            </a:r>
            <a:r>
              <a:rPr b="1" lang="cs-CZ" sz="2200" spc="-1" strike="noStrike">
                <a:solidFill>
                  <a:srgbClr val="143f7e"/>
                </a:solidFill>
                <a:latin typeface="Arial"/>
              </a:rPr>
              <a:t> nelze považovat anonymní osobu</a:t>
            </a: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143f7e"/>
                </a:solidFill>
                <a:latin typeface="Arial"/>
              </a:rPr>
              <a:t>s neprokazatelným prospěchem,</a:t>
            </a: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 tj. osobu, která dostala např. leták, bulletin nebo hromadný emai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143f7e"/>
                </a:solidFill>
                <a:latin typeface="Arial"/>
              </a:rPr>
              <a:t>(Co když ho jeden a ten samý člověk dostal třikrát? Co když ho příjemce vůbec nepřečetl? Jak charakterizujete člověka jen podle emailové adresy v povinném dílčím členění indikátoru?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d2d8a"/>
                </a:solidFill>
                <a:latin typeface="Arial"/>
              </a:rPr>
              <a:t>07.41.00</a:t>
            </a: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 </a:t>
            </a:r>
            <a:br>
              <a:rPr sz="3600"/>
            </a:b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Počet podpořených osob – celke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179280" y="1628640"/>
            <a:ext cx="871380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Nástroje pro prokazování počtu podpořených osob 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3f7e"/>
                </a:solidFill>
                <a:latin typeface="Arial"/>
              </a:rPr>
              <a:t>prezenční listiny </a:t>
            </a: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(u kurzů, seminářů a skupinových aktivit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3f7e"/>
                </a:solidFill>
                <a:latin typeface="Arial"/>
              </a:rPr>
              <a:t>karty klienta či adresář klientů </a:t>
            </a: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(např. u osobních poradenských aktivi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3f7e"/>
                </a:solidFill>
                <a:latin typeface="Arial"/>
              </a:rPr>
              <a:t>adresář klientů a archivovaná elektronická korespondence nebo výpis telefonních hovorů </a:t>
            </a: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(u konzultací po e-mailu nebo telefonu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Formu si volí projekt dle své úvahy tak, aby dostál povinnosti mít </a:t>
            </a:r>
            <a:r>
              <a:rPr b="1" lang="cs-CZ" sz="2200" spc="-1" strike="noStrike">
                <a:solidFill>
                  <a:srgbClr val="143f7e"/>
                </a:solidFill>
                <a:latin typeface="Arial"/>
              </a:rPr>
              <a:t>prokazatelný</a:t>
            </a: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 počet podpořených osob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Doporučení: Mějte na prezenčních listinách u podpořených osob kromě jména a příjmení také kontakt a datum narození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Lze mezi podpořené osoby počítat osoby projektového týmu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Členové projektového týmu nejsou podpořené osob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Zařazeni by zde mohli být pouze v případě, kdy by oni sami byli kromě projektového týmu zároveň také cílovou skupino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Např. může nastat situace, kdy jedna osoba, např. terénní pracovník, je zároveň členem týmu (pracuje s klienty z cílových skupin) a zároveň je cílovou skupinou (protože projekt mimo jiné organizuje vzdělávací kurz pro terénní pracovníky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d2d8a"/>
                </a:solidFill>
                <a:latin typeface="Arial"/>
              </a:rPr>
              <a:t>07.45.00</a:t>
            </a: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 </a:t>
            </a:r>
            <a:br>
              <a:rPr sz="3600"/>
            </a:b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Počet podpořených organizací - celk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39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Do tohoto hodnoty tohoto indikátoru se zahrnuje </a:t>
            </a:r>
            <a:r>
              <a:rPr b="1" lang="cs-CZ" sz="2400" spc="-1" strike="noStrike" u="sng">
                <a:solidFill>
                  <a:srgbClr val="143f7e"/>
                </a:solidFill>
                <a:uFillTx/>
                <a:latin typeface="Arial"/>
              </a:rPr>
              <a:t> organizace příjemce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+</a:t>
            </a:r>
            <a:r>
              <a:rPr b="1" lang="cs-CZ" sz="2400" spc="-1" strike="noStrike" u="sng">
                <a:solidFill>
                  <a:srgbClr val="143f7e"/>
                </a:solidFill>
                <a:uFillTx/>
                <a:latin typeface="Arial"/>
              </a:rPr>
              <a:t> organizace českých partnerů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uvedených v Rozhodnutí o poskytnutí do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Hodnota musí být </a:t>
            </a:r>
            <a:r>
              <a:rPr b="1" lang="cs-CZ" sz="2400" spc="-1" strike="noStrike" u="sng">
                <a:solidFill>
                  <a:srgbClr val="143f7e"/>
                </a:solidFill>
                <a:uFillTx/>
                <a:latin typeface="Arial"/>
              </a:rPr>
              <a:t>větší nebo rovna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Př.: Pokud má žadatel dva české partnery bude hodnota tohoto ukazatele 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Eliška</cp:lastModifiedBy>
  <cp:lastPrinted>2012-11-27T07:57:09Z</cp:lastPrinted>
  <dcterms:modified xsi:type="dcterms:W3CDTF">2012-12-07T10:48:37Z</dcterms:modified>
  <cp:revision>43</cp:revision>
  <dc:subject/>
  <dc:title>Snímek 1</dc:title>
</cp:coreProperties>
</file>